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68B-6C0D-4A62-8787-377B6B39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6DF-44F6-465E-A083-92DF78B2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555-B373-47D6-8AAA-BEE724C8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193-F517-49F9-8E11-D677B43B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567-3A34-4636-AA4B-B69BF2DA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6C7-E2D4-4E92-98D5-71A11B69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548-6146-4186-B97B-C9B8854B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EC5-0DFB-4065-99DB-CA9D2F15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DCC0-60CD-4AE7-A1BD-695E4790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3D3-3DB4-4957-9C7A-A10B3286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58A8-1762-4AC1-8C45-532F8AE5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1BC-FEFB-48EA-8988-6C59A300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88E5-6E9B-4332-8908-2BA5DD6F4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_______ 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3 de diciembre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25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repasamos el Examen # 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asifica el sustantivo, divide en silabas, clasifica según el numero de silabas, encierra el acento, clasifico según el ac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id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. Satu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lor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7. Plan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uatemal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8. Pája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lom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. San Jo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rellit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0. Venez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ar la Tarea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Crear las tarjetas de índice para estudiar, necesitas encontrar las definiciones para las siguientes palabr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onema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ustan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artes del alfabeto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   -Sustantivo Comú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Vocales abiertas o fuert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   -Sustantivo Prop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Vocales cerradas o débil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   -Genero del sustan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Diptongo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   -Numero del sustan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Triptongo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Hiato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un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La palabra                   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   -Punto segui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La silab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   -Punto apar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-Monosílab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   -Punto fi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Bisílab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Trisílab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Or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olisílaba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   -Oración Enunciativ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osición de silaba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   -Oración Interrogativ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Acento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   -Oración Exclamativ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Acento ortográfico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Acento auditivo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Agud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Grave o Llan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sdrújul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7:39:13Z</dcterms:created>
  <dc:creator>Helen Zumaeta</dc:creator>
  <dc:description/>
  <dc:language>en-US</dc:language>
  <cp:lastModifiedBy>Helen Zumaeta</cp:lastModifiedBy>
  <dcterms:modified xsi:type="dcterms:W3CDTF">2011-12-02T17:39:34Z</dcterms:modified>
  <cp:revision>1</cp:revision>
  <dc:subject/>
  <dc:title>Me llamo_______ Clase 6NH La fecha es el 3 de diciembre del 2011</dc:title>
</cp:coreProperties>
</file>